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C5F-FCA3-466D-BDB7-2589EC05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24B-C0FD-465F-B9FA-F2AB5887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9A0-24FA-47D4-88B5-A37C926E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59F-FCBD-4492-B0DD-58C54F01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DC8-C27F-43A9-81BA-24683A61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361-C331-49B9-BD43-CD0CE750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3D7-9F93-49F0-8522-0E2EE562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4FC-1271-49F6-AD50-A1508B06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B69-40BF-4898-ACE7-BBEE8934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E44-AC14-45C0-A5B3-276A2567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5D4-356F-43BE-A1C8-E97B402E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211-CE77-4429-B47B-35ED367E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6CE-BA9D-4A4A-975B-D57AEEA5158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21000"/>
            <a:ext cx="6656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EL SALV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643040"/>
            <a:ext cx="86421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621000"/>
            <a:ext cx="6656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EL SALV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50920" y="1643040"/>
            <a:ext cx="86421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621000"/>
            <a:ext cx="6656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UERTO DE LA LIBERT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1657440"/>
            <a:ext cx="84978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621000"/>
            <a:ext cx="6656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UERTO DE ACAJUT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68360" y="1724040"/>
            <a:ext cx="81360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621000"/>
            <a:ext cx="6656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UERTO DE CUTUCO, LA UNIÒ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8893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15:16:18Z</dcterms:created>
  <dc:creator>stage8</dc:creator>
  <dc:description/>
  <dc:language>en-US</dc:language>
  <cp:lastModifiedBy>stage8</cp:lastModifiedBy>
  <dcterms:modified xsi:type="dcterms:W3CDTF">2015-03-25T16:20:28Z</dcterms:modified>
  <cp:revision>4</cp:revision>
  <dc:subject/>
  <dc:title>Diapositiva 1</dc:title>
</cp:coreProperties>
</file>