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A588-880E-419B-9405-98A59899E1FB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Espace réservé du numéro de diapositive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0CC0-154B-4A5D-950C-C67AA7B67F0A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u numéro de diapositive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6C49-C0B3-4E6E-9A18-FB621C0B7C1C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9DC2-9BBF-4587-9051-1F1A8EB242A4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2FD-7A19-46A9-9188-4F8C9369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227-39ED-4D34-9445-74167F4A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27B-6DB2-4E05-89E3-4B55331B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48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83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48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37472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BD5-277E-440E-919A-A3679979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A36-C555-4468-98B7-2AFF53CE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B56-A039-458F-92C4-84FB2CC9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5FCF-4893-4589-95B7-99B09FB3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365-7110-454D-A397-4542E889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72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813-098C-433D-B182-CEEBE80B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2EF-DB01-4890-B3BE-0E5A4BF6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3747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7F2-8AEB-471F-9E56-AECCD86C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176832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720"/>
            <a:ext cx="9072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607-9CF6-4C03-B1E2-BA3AB801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7B15-88CB-4B36-8A3A-DB60AFE6B357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35" descr=""/>
          <p:cNvPicPr/>
          <p:nvPr/>
        </p:nvPicPr>
        <p:blipFill>
          <a:blip r:embed="rId1"/>
          <a:stretch/>
        </p:blipFill>
        <p:spPr>
          <a:xfrm>
            <a:off x="6448320" y="2152800"/>
            <a:ext cx="2205000" cy="2936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5560" y="4320"/>
            <a:ext cx="43844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Les Chouet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84800" y="-6840"/>
            <a:ext cx="46958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Les Hibo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necteur droit 3"/>
          <p:cNvSpPr/>
          <p:nvPr/>
        </p:nvSpPr>
        <p:spPr>
          <a:xfrm>
            <a:off x="5219640" y="1079640"/>
            <a:ext cx="0" cy="54003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 34" descr=""/>
          <p:cNvPicPr/>
          <p:nvPr/>
        </p:nvPicPr>
        <p:blipFill>
          <a:blip r:embed="rId2"/>
          <a:stretch/>
        </p:blipFill>
        <p:spPr>
          <a:xfrm>
            <a:off x="1460520" y="2228760"/>
            <a:ext cx="2590920" cy="285768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24"/>
          <p:cNvSpPr/>
          <p:nvPr/>
        </p:nvSpPr>
        <p:spPr>
          <a:xfrm>
            <a:off x="2519280" y="6840360"/>
            <a:ext cx="5400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0000"/>
                </a:solidFill>
                <a:latin typeface="Comic Sans MS"/>
                <a:ea typeface="MS Gothic"/>
              </a:rPr>
              <a:t>Environ 200 espèces dans le monde 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e 25"/>
          <p:cNvGrpSpPr/>
          <p:nvPr/>
        </p:nvGrpSpPr>
        <p:grpSpPr>
          <a:xfrm>
            <a:off x="2879640" y="1440000"/>
            <a:ext cx="5040360" cy="899640"/>
            <a:chOff x="2879640" y="1440000"/>
            <a:chExt cx="5040360" cy="899640"/>
          </a:xfrm>
        </p:grpSpPr>
        <p:grpSp>
          <p:nvGrpSpPr>
            <p:cNvPr id="55" name="Groupe 26"/>
            <p:cNvGrpSpPr/>
            <p:nvPr/>
          </p:nvGrpSpPr>
          <p:grpSpPr>
            <a:xfrm>
              <a:off x="2879640" y="1440000"/>
              <a:ext cx="2160000" cy="899640"/>
              <a:chOff x="2879640" y="1440000"/>
              <a:chExt cx="2160000" cy="899640"/>
            </a:xfrm>
          </p:grpSpPr>
          <p:sp>
            <p:nvSpPr>
              <p:cNvPr id="56" name="Connecteur droit 27"/>
              <p:cNvSpPr/>
              <p:nvPr/>
            </p:nvSpPr>
            <p:spPr>
              <a:xfrm flipV="1">
                <a:off x="3239640" y="1800000"/>
                <a:ext cx="360000" cy="539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ZoneTexte 28"/>
              <p:cNvSpPr/>
              <p:nvPr/>
            </p:nvSpPr>
            <p:spPr>
              <a:xfrm>
                <a:off x="2879640" y="1440000"/>
                <a:ext cx="216000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Tête rond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Groupe 29"/>
            <p:cNvGrpSpPr/>
            <p:nvPr/>
          </p:nvGrpSpPr>
          <p:grpSpPr>
            <a:xfrm>
              <a:off x="5760000" y="1633320"/>
              <a:ext cx="2160000" cy="706320"/>
              <a:chOff x="5760000" y="1633320"/>
              <a:chExt cx="2160000" cy="706320"/>
            </a:xfrm>
          </p:grpSpPr>
          <p:sp>
            <p:nvSpPr>
              <p:cNvPr id="59" name="ZoneTexte 30"/>
              <p:cNvSpPr/>
              <p:nvPr/>
            </p:nvSpPr>
            <p:spPr>
              <a:xfrm>
                <a:off x="5760000" y="1633320"/>
                <a:ext cx="216000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  <a:ea typeface="MS Gothic"/>
                  </a:rPr>
                  <a:t>Aigrette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Connecteur droit 31"/>
              <p:cNvSpPr/>
              <p:nvPr/>
            </p:nvSpPr>
            <p:spPr>
              <a:xfrm flipH="1" flipV="1">
                <a:off x="6480000" y="1979280"/>
                <a:ext cx="539640" cy="36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1" name="Picture 2" descr="http://upload.wikimedia.org/wikipedia/commons/thumb/8/87/Bubo_bubo_domesticated.jpeg/640px-Bubo_bubo_domesticated.jpeg"/>
          <p:cNvPicPr/>
          <p:nvPr/>
        </p:nvPicPr>
        <p:blipFill>
          <a:blip r:embed="rId3"/>
          <a:stretch/>
        </p:blipFill>
        <p:spPr>
          <a:xfrm>
            <a:off x="7775640" y="493560"/>
            <a:ext cx="2116080" cy="293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upload.wikimedia.org/wikipedia/commons/thumb/c/ca/Long-eared_Owl-Mindaugas_Urbonas-1.jpg/800px-Long-eared_Owl-Mindaugas_Urbonas-1.jpg"/>
          <p:cNvPicPr/>
          <p:nvPr/>
        </p:nvPicPr>
        <p:blipFill>
          <a:blip r:embed="rId4"/>
          <a:srcRect l="22139" t="0" r="23698" b="0"/>
          <a:stretch/>
        </p:blipFill>
        <p:spPr>
          <a:xfrm>
            <a:off x="7783560" y="3801960"/>
            <a:ext cx="2166840" cy="2968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www.astrosurf.com/magnitude78/astrodessin/st_veran/img/Hibou-des-marais.jpg"/>
          <p:cNvPicPr/>
          <p:nvPr/>
        </p:nvPicPr>
        <p:blipFill>
          <a:blip r:embed="rId5"/>
          <a:stretch/>
        </p:blipFill>
        <p:spPr>
          <a:xfrm>
            <a:off x="5400720" y="332424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36"/>
          <p:cNvSpPr/>
          <p:nvPr/>
        </p:nvSpPr>
        <p:spPr>
          <a:xfrm>
            <a:off x="7775640" y="3424320"/>
            <a:ext cx="20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MS Gothic"/>
              </a:rPr>
              <a:t>Hibou grand-du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oneTexte 37"/>
          <p:cNvSpPr/>
          <p:nvPr/>
        </p:nvSpPr>
        <p:spPr>
          <a:xfrm>
            <a:off x="5564160" y="5349960"/>
            <a:ext cx="20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MS Gothic"/>
              </a:rPr>
              <a:t>Hibou des mara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http://upload.wikimedia.org/wikipedia/commons/thumb/c/c6/Tyto_alba_-British_Wildlife_Centre%2C_Surrey%2C_England-8a_%281%29.jpg/640px-Tyto_alba_-British_Wildlife_Centre%2C_Surrey%2C_England-8a_%281%29.jpg"/>
          <p:cNvPicPr/>
          <p:nvPr/>
        </p:nvPicPr>
        <p:blipFill>
          <a:blip r:embed="rId6"/>
          <a:stretch/>
        </p:blipFill>
        <p:spPr>
          <a:xfrm>
            <a:off x="111240" y="496800"/>
            <a:ext cx="1876320" cy="227340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40"/>
          <p:cNvSpPr/>
          <p:nvPr/>
        </p:nvSpPr>
        <p:spPr>
          <a:xfrm>
            <a:off x="7783560" y="6770520"/>
            <a:ext cx="22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MS Gothic"/>
              </a:rPr>
              <a:t>Hibou moyen-du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1" descr="http://upload.wikimedia.org/wikipedia/commons/thumb/3/3f/Strix-varia-005-crop.jpg/640px-Strix-varia-005-crop.jpg"/>
          <p:cNvPicPr/>
          <p:nvPr/>
        </p:nvPicPr>
        <p:blipFill>
          <a:blip r:embed="rId7"/>
          <a:stretch/>
        </p:blipFill>
        <p:spPr>
          <a:xfrm>
            <a:off x="317520" y="341784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upload.wikimedia.org/wikipedia/commons/thumb/4/4e/Tawny_wiki.jpg/640px-Tawny_wiki.jpg"/>
          <p:cNvPicPr/>
          <p:nvPr/>
        </p:nvPicPr>
        <p:blipFill>
          <a:blip r:embed="rId8"/>
          <a:stretch/>
        </p:blipFill>
        <p:spPr>
          <a:xfrm>
            <a:off x="2879640" y="2298600"/>
            <a:ext cx="1890720" cy="280512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41"/>
          <p:cNvSpPr/>
          <p:nvPr/>
        </p:nvSpPr>
        <p:spPr>
          <a:xfrm>
            <a:off x="147600" y="27432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MS Gothic"/>
              </a:rPr>
              <a:t>Chouette effra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oneTexte 42"/>
          <p:cNvSpPr/>
          <p:nvPr/>
        </p:nvSpPr>
        <p:spPr>
          <a:xfrm>
            <a:off x="2879640" y="510372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MS Gothic"/>
              </a:rPr>
              <a:t>Chouette hulo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49"/>
          <p:cNvSpPr/>
          <p:nvPr/>
        </p:nvSpPr>
        <p:spPr>
          <a:xfrm>
            <a:off x="385920" y="5719680"/>
            <a:ext cx="18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MS Gothic"/>
              </a:rPr>
              <a:t>Chouette ray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4"/>
          <p:cNvSpPr/>
          <p:nvPr/>
        </p:nvSpPr>
        <p:spPr>
          <a:xfrm>
            <a:off x="3060720" y="179280"/>
            <a:ext cx="4319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  <a:ea typeface="MS Gothic"/>
              </a:rPr>
              <a:t>S'agit-il de la même espèce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6"/>
          <p:cNvSpPr/>
          <p:nvPr/>
        </p:nvSpPr>
        <p:spPr>
          <a:xfrm>
            <a:off x="1619280" y="6119640"/>
            <a:ext cx="6840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MS Gothic"/>
              </a:rPr>
              <a:t>Oui, ce sont des Canards col-vert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9" descr="http://www.coq.qc.ca/ChroniqueJournalQc/ChroniquePhotos/CanardColvert051108MaizeretsJCGermain.jpg"/>
          <p:cNvPicPr/>
          <p:nvPr/>
        </p:nvPicPr>
        <p:blipFill>
          <a:blip r:embed="rId1"/>
          <a:stretch/>
        </p:blipFill>
        <p:spPr>
          <a:xfrm>
            <a:off x="403200" y="623880"/>
            <a:ext cx="3917880" cy="2611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Canard colvert"/>
          <p:cNvPicPr/>
          <p:nvPr/>
        </p:nvPicPr>
        <p:blipFill>
          <a:blip r:embed="rId2"/>
          <a:stretch/>
        </p:blipFill>
        <p:spPr>
          <a:xfrm>
            <a:off x="5738760" y="689040"/>
            <a:ext cx="3836880" cy="2544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http://fr.wallpaperswiki.org/wallpapers/2012/10/Bird-anatid%C3%A9s-le-canard-colvert-768x1366.jpg"/>
          <p:cNvPicPr/>
          <p:nvPr/>
        </p:nvPicPr>
        <p:blipFill>
          <a:blip r:embed="rId3"/>
          <a:stretch/>
        </p:blipFill>
        <p:spPr>
          <a:xfrm>
            <a:off x="2651040" y="3510000"/>
            <a:ext cx="4678560" cy="26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oneTexte 1"/>
          <p:cNvSpPr/>
          <p:nvPr/>
        </p:nvSpPr>
        <p:spPr>
          <a:xfrm>
            <a:off x="1490760" y="455760"/>
            <a:ext cx="100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Calibri"/>
              </a:rPr>
              <a:t>Ligre (ou ligron) = tigresse + l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upload.wikimedia.org/wikipedia/commons/2/2c/Liger_Jungle_Island.jpg"/>
          <p:cNvPicPr/>
          <p:nvPr/>
        </p:nvPicPr>
        <p:blipFill>
          <a:blip r:embed="rId1"/>
          <a:stretch/>
        </p:blipFill>
        <p:spPr>
          <a:xfrm>
            <a:off x="6391440" y="160200"/>
            <a:ext cx="3004920" cy="255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alt=Description de cette image, également commentée ci-après"/>
          <p:cNvPicPr/>
          <p:nvPr/>
        </p:nvPicPr>
        <p:blipFill>
          <a:blip r:embed="rId2"/>
          <a:stretch/>
        </p:blipFill>
        <p:spPr>
          <a:xfrm>
            <a:off x="431640" y="5489640"/>
            <a:ext cx="2762280" cy="1914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lt=Description de cette image, également commentée ci-après"/>
          <p:cNvPicPr/>
          <p:nvPr/>
        </p:nvPicPr>
        <p:blipFill>
          <a:blip r:embed="rId3"/>
          <a:stretch/>
        </p:blipFill>
        <p:spPr>
          <a:xfrm>
            <a:off x="6789600" y="3618000"/>
            <a:ext cx="2762280" cy="2828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ttp://i44.servimg.com/u/f44/11/84/03/95/tigron11.jpg"/>
          <p:cNvPicPr/>
          <p:nvPr/>
        </p:nvPicPr>
        <p:blipFill>
          <a:blip r:embed="rId4"/>
          <a:stretch/>
        </p:blipFill>
        <p:spPr>
          <a:xfrm>
            <a:off x="311040" y="1884240"/>
            <a:ext cx="3729240" cy="279576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2"/>
          <p:cNvSpPr/>
          <p:nvPr/>
        </p:nvSpPr>
        <p:spPr>
          <a:xfrm>
            <a:off x="4040280" y="2989440"/>
            <a:ext cx="42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Calibri"/>
              </a:rPr>
              <a:t>Tigron = lionne  + tig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3"/>
          <p:cNvSpPr/>
          <p:nvPr/>
        </p:nvSpPr>
        <p:spPr>
          <a:xfrm>
            <a:off x="2419200" y="4799160"/>
            <a:ext cx="54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Calibri"/>
              </a:rPr>
              <a:t>Mule et mulet = jument + â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4"/>
          <p:cNvSpPr/>
          <p:nvPr/>
        </p:nvSpPr>
        <p:spPr>
          <a:xfrm>
            <a:off x="3193920" y="6699240"/>
            <a:ext cx="60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Calibri"/>
              </a:rPr>
              <a:t>Bardot (ou bardeau) = ânesse + étal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21:21:07Z</dcterms:created>
  <dc:creator>Cédric GOBET</dc:creator>
  <dc:description/>
  <dc:language>en-US</dc:language>
  <cp:lastModifiedBy>Cédric GOBET</cp:lastModifiedBy>
  <dcterms:modified xsi:type="dcterms:W3CDTF">2014-09-11T13:33:00Z</dcterms:modified>
  <cp:revision>15</cp:revision>
  <dc:subject/>
  <dc:title>Présentation PowerPoint</dc:title>
</cp:coreProperties>
</file>